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7.png" ContentType="image/png"/>
  <Override PartName="/ppt/media/image1.jpeg" ContentType="image/jpeg"/>
  <Override PartName="/ppt/media/image11.jpeg" ContentType="image/jpeg"/>
  <Override PartName="/ppt/media/image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F3EC87-0F1E-4B5D-9585-ABD2C69C0BA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147E94-3ADE-4F2A-811B-8B41761DA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F82023-7809-4AD1-8F0C-9254285AD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08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55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08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55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07F584-802E-4D3C-A27F-71C030FEE87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774672-5C07-45AF-994E-1E254934A77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6E975C-6F28-4279-81DC-4272139A5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0535DF-5F8D-45B9-83BA-1A21A915A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6D2C97-D7FA-4798-8713-7F1FB3177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5611B7-A5C7-463C-87CA-ED727700F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680"/>
            <a:ext cx="749808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F31E6E-28B8-4D66-98F7-8C6CC36B1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9F926C-5390-4945-A978-AA7CD7221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905A33-F47E-4CC0-8891-42907A5DB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5D8DE3-DE80-4AEC-B521-0D51CD103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661136-0EA6-42C1-A8AB-6D025FEDD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DA6A58-B38A-4280-BFCB-DE4395A4E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E206EA-5C92-4425-90CB-601F369F2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08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55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08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55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2532B9-5E2D-474E-9548-654492FFC0F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2132A-BDF7-4EBE-B2C0-DE0B91909FF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A2868-A810-4366-958D-67B60D7DA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B14F7-D04D-433F-9ACA-BC260B9C3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62742-37A9-46A3-8D7E-E93D66BC7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F5463-1514-4EF3-8794-13861E326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096EBF-BE59-4975-A8E8-6448C3BA5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680"/>
            <a:ext cx="749808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AD536-2D7B-4962-BA62-E9AB75197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90143-25A3-44E8-BB5C-71F62582C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DB495-D232-4524-9B88-8C18A3B33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96100-E27F-49F1-8FD2-6D948A6A7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923EE-459F-4024-9075-411A49F75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D7074-97DF-44B7-909A-39329D7A0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08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55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08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55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40E84-59D5-4F6E-A688-E898FBF7E4F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3AA6F84-1775-415A-B566-B7D6EC5E3A8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AE73F28-0A21-4AD3-93D2-EB7A058DA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2FEEE9-4B0F-4D99-99A1-0CA1DB0FD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948378-F371-4D3A-97E0-C1EC14686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FB119DA-679B-48C7-BF86-ACCF1193B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E61AFB-F62B-420A-9EE0-BF27BD14F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680"/>
            <a:ext cx="749808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14D0743-70F7-4393-8066-69859DBD2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3B04265-4598-4205-9390-68CE55A0E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5963963-6CE6-475E-B73A-85294F911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DFD1612-8702-470D-ADDC-F90A32F5B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E896766-4425-4481-8259-F9DAD927C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75D5AB1-4EAF-4816-AFFF-FCC7B803D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08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55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08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55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F489E9D-F951-4F24-9C4B-1F92C13F48C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B72E730-67B7-4223-99BB-00C4FD5BFA4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930C9B-67C8-4434-8613-F667F4180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DFF45C4-B52E-4D36-97DA-3C533FCD9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928CEFB-AF74-4554-ACAF-AA2F3DD34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4670BA8-FD0B-4FA3-9CE2-32C4467FD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9DC4B2D-D66A-4C53-92AA-B72D76A89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1434960" y="274680"/>
            <a:ext cx="749808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DB87026-3539-4448-B15F-0918A5DF9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44C041B-4B99-4F84-9ACC-BD222FB23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C5783E4-6D70-4FA1-B734-65C9B15CD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A9B08C9-F5AD-4E1E-B5A7-ED10BCE1C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0EEBCD0-31CA-4930-859D-BBF3BA8C4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CEC9688-7CB9-47ED-B600-028CBCA17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680"/>
            <a:ext cx="749808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156FDD-3166-4EA7-A8B7-7945CF9BF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97008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5055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14349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97008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5055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46AEB91-54B9-4CAE-9A11-62573B0F1F9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B66C1D-B5A9-4CAC-98DF-D5DE2128ADE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9ECF47-B0DE-47BC-858E-341311C91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330E46-316A-4D25-9040-B7AF50789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105839-61C2-4400-9367-17A1E5FA1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FCD7E6-B4C7-4991-967D-9D0091D3F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1434960" y="274680"/>
            <a:ext cx="749808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8C0B37-D2D4-4461-BF60-212DE7F25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9DB193-9A2D-442E-A097-010658577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53515B-9767-4D3A-9C7C-DBD78347C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7C08D9-21C0-4DE6-A619-675D5866F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66705F-AB6A-44BD-A7A3-B430ED7C8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CB44A8-7152-4CB2-9A53-477AC1390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46F002-4D04-4BAE-BC4F-AAEFEDDE7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397008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5055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14349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397008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5055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5C80B2-C2DC-4195-9445-291275A3A9C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8CD23A-30BB-4B21-9B1B-441DC607A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38485C-FF00-4C2F-BB41-7756BA261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165240" y="1036800"/>
            <a:ext cx="1168200" cy="1168200"/>
            <a:chOff x="165240" y="1036800"/>
            <a:chExt cx="1168200" cy="1168200"/>
          </a:xfrm>
        </p:grpSpPr>
        <p:pic>
          <p:nvPicPr>
            <p:cNvPr id="3" name="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68200" cy="116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40000">
              <a:off x="348840" y="1216080"/>
              <a:ext cx="793800" cy="77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22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2"/>
          </p:nvPr>
        </p:nvSpPr>
        <p:spPr>
          <a:xfrm>
            <a:off x="8613720" y="6305040"/>
            <a:ext cx="45576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711DC54-E449-4852-9124-A236B03501A8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165240" y="1036800"/>
            <a:ext cx="1168200" cy="1168200"/>
            <a:chOff x="165240" y="1036800"/>
            <a:chExt cx="1168200" cy="1168200"/>
          </a:xfrm>
        </p:grpSpPr>
        <p:pic>
          <p:nvPicPr>
            <p:cNvPr id="51" name="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68200" cy="116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40000">
              <a:off x="348840" y="1216080"/>
              <a:ext cx="793800" cy="77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914400" y="1407960"/>
            <a:ext cx="230040" cy="223920"/>
            <a:chOff x="914400" y="1407960"/>
            <a:chExt cx="230040" cy="223920"/>
          </a:xfrm>
        </p:grpSpPr>
        <p:pic>
          <p:nvPicPr>
            <p:cNvPr id="56" name="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0040" cy="22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760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3"/>
          </p:nvPr>
        </p:nvSpPr>
        <p:spPr>
          <a:xfrm>
            <a:off x="3580920" y="6305040"/>
            <a:ext cx="21322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b5a788"/>
                </a:solidFill>
                <a:latin typeface="Corbel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  <a:ea typeface="Segoe U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4"/>
          </p:nvPr>
        </p:nvSpPr>
        <p:spPr>
          <a:xfrm>
            <a:off x="8613720" y="6305040"/>
            <a:ext cx="45576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200" spc="-1" strike="noStrike">
                <a:solidFill>
                  <a:srgbClr val="b5a788"/>
                </a:solidFill>
                <a:latin typeface="Corbel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9E310707-036D-4564-9C36-2B5225ABADE0}" type="slidenum">
              <a:rPr b="0" lang="ru-RU" sz="1200" spc="-1" strike="noStrike">
                <a:solidFill>
                  <a:srgbClr val="b5a788"/>
                </a:solidFill>
                <a:latin typeface="Corbel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2163600" y="2809800"/>
            <a:ext cx="230400" cy="223920"/>
            <a:chOff x="2163600" y="2809800"/>
            <a:chExt cx="230400" cy="223920"/>
          </a:xfrm>
        </p:grpSpPr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0400" cy="22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580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5"/>
          </p:nvPr>
        </p:nvSpPr>
        <p:spPr>
          <a:xfrm>
            <a:off x="3580920" y="6305040"/>
            <a:ext cx="21322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b5a788"/>
                </a:solidFill>
                <a:latin typeface="Corbel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  <a:ea typeface="Segoe U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576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200" spc="-1" strike="noStrike">
                <a:solidFill>
                  <a:srgbClr val="b5a788"/>
                </a:solidFill>
                <a:latin typeface="Corbel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81ABE5F1-CA02-4618-81D8-89BFB80C0279}" type="slidenum">
              <a:rPr b="0" lang="ru-RU" sz="1200" spc="-1" strike="noStrike">
                <a:solidFill>
                  <a:srgbClr val="b5a788"/>
                </a:solidFill>
                <a:latin typeface="Corbel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22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b5a788"/>
                </a:solidFill>
                <a:latin typeface="Corbel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  <a:ea typeface="Segoe U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 type="sldNum" idx="8"/>
          </p:nvPr>
        </p:nvSpPr>
        <p:spPr>
          <a:xfrm>
            <a:off x="8613720" y="6305040"/>
            <a:ext cx="45576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200" spc="-1" strike="noStrike">
                <a:solidFill>
                  <a:srgbClr val="b5a788"/>
                </a:solidFill>
                <a:latin typeface="Corbel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D1EE4116-3FA0-4CD1-AD97-8DF6F7E0370B}" type="slidenum">
              <a:rPr b="0" lang="ru-RU" sz="1200" spc="-1" strike="noStrike">
                <a:solidFill>
                  <a:srgbClr val="b5a788"/>
                </a:solidFill>
                <a:latin typeface="Corbel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9"/>
          </p:nvPr>
        </p:nvSpPr>
        <p:spPr>
          <a:xfrm>
            <a:off x="3580920" y="6305040"/>
            <a:ext cx="21322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b5a788"/>
                </a:solidFill>
                <a:latin typeface="Corbel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  <a:ea typeface="Segoe U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 type="sldNum" idx="10"/>
          </p:nvPr>
        </p:nvSpPr>
        <p:spPr>
          <a:xfrm>
            <a:off x="8613720" y="6305040"/>
            <a:ext cx="45576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200" spc="-1" strike="noStrike">
                <a:solidFill>
                  <a:srgbClr val="b5a788"/>
                </a:solidFill>
                <a:latin typeface="Corbel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00E21CE7-227E-4177-9083-90D771691466}" type="slidenum">
              <a:rPr b="0" lang="ru-RU" sz="1200" spc="-1" strike="noStrike">
                <a:solidFill>
                  <a:srgbClr val="b5a788"/>
                </a:solidFill>
                <a:latin typeface="Corbel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9" name=""/>
          <p:cNvGrpSpPr/>
          <p:nvPr/>
        </p:nvGrpSpPr>
        <p:grpSpPr>
          <a:xfrm>
            <a:off x="646200" y="969840"/>
            <a:ext cx="4802040" cy="4800600"/>
            <a:chOff x="646200" y="969840"/>
            <a:chExt cx="4802040" cy="4800600"/>
          </a:xfrm>
        </p:grpSpPr>
        <p:pic>
          <p:nvPicPr>
            <p:cNvPr id="230" name="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2040" cy="480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"/>
            <p:cNvSpPr/>
            <p:nvPr/>
          </p:nvSpPr>
          <p:spPr>
            <a:xfrm>
              <a:off x="762120" y="1066680"/>
              <a:ext cx="4570200" cy="457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"/>
          <p:cNvSpPr/>
          <p:nvPr/>
        </p:nvSpPr>
        <p:spPr>
          <a:xfrm rot="19440000">
            <a:off x="39672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H="1" rot="2100000">
            <a:off x="5003640" y="938160"/>
            <a:ext cx="64944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dt" idx="11"/>
          </p:nvPr>
        </p:nvSpPr>
        <p:spPr>
          <a:xfrm>
            <a:off x="3580920" y="6305040"/>
            <a:ext cx="21322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b5a788"/>
                </a:solidFill>
                <a:latin typeface="Corbel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  <a:ea typeface="Segoe U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576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200" spc="-1" strike="noStrike">
                <a:solidFill>
                  <a:srgbClr val="b5a788"/>
                </a:solidFill>
                <a:latin typeface="Corbel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55BBCC44-07E0-4109-9D44-B8928185F324}" type="slidenum">
              <a:rPr b="0" lang="ru-RU" sz="1200" spc="-1" strike="noStrike">
                <a:solidFill>
                  <a:srgbClr val="b5a788"/>
                </a:solidFill>
                <a:latin typeface="Corbel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1434960" y="274680"/>
            <a:ext cx="7499520" cy="164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572314"/>
                </a:solidFill>
                <a:latin typeface="Corbel"/>
                <a:ea typeface="Microsoft YaHei"/>
              </a:rPr>
              <a:t>Основы православной культур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1434960" y="2349360"/>
            <a:ext cx="7499520" cy="38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6360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  <a:ea typeface="Microsoft YaHei"/>
              </a:rPr>
              <a:t>Урок №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360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  <a:ea typeface="Microsoft YaHei"/>
              </a:rPr>
              <a:t>Тема «Иконы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2"/>
          <a:stretch/>
        </p:blipFill>
        <p:spPr>
          <a:xfrm>
            <a:off x="4859280" y="2492280"/>
            <a:ext cx="3749760" cy="352908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fill="hold">
                      <p:stCondLst>
                        <p:cond delay="indefinite"/>
                      </p:stCondLst>
                      <p:childTnLst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1434960" y="274680"/>
            <a:ext cx="7499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f0066"/>
                </a:solidFill>
                <a:latin typeface="Corbel"/>
                <a:ea typeface="Microsoft YaHei"/>
              </a:rPr>
              <a:t>ЦЕЛИТЕЛЬНИЦ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2"/>
          <a:stretch/>
        </p:blipFill>
        <p:spPr>
          <a:xfrm>
            <a:off x="1042920" y="1268280"/>
            <a:ext cx="3313080" cy="4680000"/>
          </a:xfrm>
          <a:prstGeom prst="rect">
            <a:avLst/>
          </a:prstGeom>
          <a:ln w="0">
            <a:noFill/>
          </a:ln>
        </p:spPr>
      </p:pic>
      <p:sp>
        <p:nvSpPr>
          <p:cNvPr id="309" name=""/>
          <p:cNvSpPr/>
          <p:nvPr/>
        </p:nvSpPr>
        <p:spPr>
          <a:xfrm>
            <a:off x="5261040" y="1447920"/>
            <a:ext cx="367344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6360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  <a:ea typeface="Microsoft YaHei"/>
              </a:rPr>
              <a:t>Нам видима связь земного и небесного мира. Постоянно возносимые иконе молитвы содержат просьбу даровать здравие и нашим телам, и нашим душа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  <a:ea typeface="Microsoft YaHei"/>
              </a:rPr>
              <a:t>Вознесенное от чистого сердца любое прошение обязательно услышит Матерь Божия. И в самых тяжелых ситуациях люди обращаются к ней за помощью, как к последней надежд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dur="indefinite" fill="hold">
                      <p:stCondLst>
                        <p:cond delay="0"/>
                      </p:stCondLst>
                      <p:childTnLst>
                        <p:par>
                          <p:cTn id="12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dur="indefinite" fill="hold">
                      <p:stCondLst>
                        <p:cond delay="indefinite"/>
                      </p:stCondLst>
                      <p:childTnLst>
                        <p:par>
                          <p:cTn id="12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dur="indefinite" fill="hold">
                      <p:stCondLst>
                        <p:cond delay="indefinite"/>
                      </p:stCondLst>
                      <p:childTnLst>
                        <p:par>
                          <p:cTn id="13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dur="indefinite" fill="hold">
                      <p:stCondLst>
                        <p:cond delay="indefinite"/>
                      </p:stCondLst>
                      <p:childTnLst>
                        <p:par>
                          <p:cTn id="13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1434960" y="274680"/>
            <a:ext cx="7499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orbel"/>
                <a:ea typeface="Microsoft YaHei"/>
              </a:rPr>
              <a:t>ВСЕХ СКОРБЯЩИХ РАДОС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1434960" y="1447920"/>
            <a:ext cx="3673440" cy="48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5261040" y="1447920"/>
            <a:ext cx="367344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6360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  <a:ea typeface="Microsoft YaHei"/>
              </a:rPr>
              <a:t>Чудотворная икона «Всех Скорбящих Радость» 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  <a:ea typeface="Microsoft YaHei"/>
              </a:rPr>
              <a:t> - помощница обиженным, заступница убогих, утешение в печали, больных исцеление, грешных спасение, покровительница сиро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" descr=""/>
          <p:cNvPicPr/>
          <p:nvPr/>
        </p:nvPicPr>
        <p:blipFill>
          <a:blip r:embed="rId2"/>
          <a:stretch/>
        </p:blipFill>
        <p:spPr>
          <a:xfrm>
            <a:off x="1476360" y="1628640"/>
            <a:ext cx="4032360" cy="45468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dur="indefinite" fill="hold">
                      <p:stCondLst>
                        <p:cond delay="0"/>
                      </p:stCondLst>
                      <p:childTnLst>
                        <p:par>
                          <p:cTn id="14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dur="indefinite" fill="hold">
                      <p:stCondLst>
                        <p:cond delay="indefinite"/>
                      </p:stCondLst>
                      <p:childTnLst>
                        <p:par>
                          <p:cTn id="14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1434960" y="274680"/>
            <a:ext cx="7499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-1476360" y="981000"/>
            <a:ext cx="6737400" cy="15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65040" indent="-280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6504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br>
              <a:rPr sz="3000"/>
            </a:br>
            <a:r>
              <a:rPr b="0" lang="ru-RU" sz="1700" spc="-1" strike="noStrike">
                <a:solidFill>
                  <a:srgbClr val="000000"/>
                </a:solidFill>
                <a:latin typeface="Corbel"/>
                <a:ea typeface="Microsoft YaHei"/>
              </a:rPr>
              <a:t>	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38240" y="460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1042920" y="2205000"/>
            <a:ext cx="2521080" cy="295272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3"/>
          <a:stretch/>
        </p:blipFill>
        <p:spPr>
          <a:xfrm>
            <a:off x="6516720" y="2060640"/>
            <a:ext cx="2627280" cy="375444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4"/>
          <a:stretch/>
        </p:blipFill>
        <p:spPr>
          <a:xfrm>
            <a:off x="3851280" y="3284640"/>
            <a:ext cx="2516040" cy="309708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3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" descr=""/>
          <p:cNvPicPr/>
          <p:nvPr/>
        </p:nvPicPr>
        <p:blipFill>
          <a:blip r:embed="rId2"/>
          <a:stretch/>
        </p:blipFill>
        <p:spPr>
          <a:xfrm>
            <a:off x="941400" y="549360"/>
            <a:ext cx="3800520" cy="4535280"/>
          </a:xfrm>
          <a:prstGeom prst="rect">
            <a:avLst/>
          </a:prstGeom>
          <a:ln w="0">
            <a:noFill/>
          </a:ln>
        </p:spPr>
      </p:pic>
      <p:pic>
        <p:nvPicPr>
          <p:cNvPr id="285" name="" descr=""/>
          <p:cNvPicPr/>
          <p:nvPr/>
        </p:nvPicPr>
        <p:blipFill>
          <a:blip r:embed="rId3"/>
          <a:stretch/>
        </p:blipFill>
        <p:spPr>
          <a:xfrm>
            <a:off x="4741920" y="1601640"/>
            <a:ext cx="4125960" cy="473724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" descr=""/>
          <p:cNvPicPr/>
          <p:nvPr/>
        </p:nvPicPr>
        <p:blipFill>
          <a:blip r:embed="rId2"/>
          <a:stretch/>
        </p:blipFill>
        <p:spPr>
          <a:xfrm>
            <a:off x="900000" y="952560"/>
            <a:ext cx="3562560" cy="4827600"/>
          </a:xfrm>
          <a:prstGeom prst="rect">
            <a:avLst/>
          </a:prstGeom>
          <a:ln w="0">
            <a:noFill/>
          </a:ln>
        </p:spPr>
      </p:pic>
      <p:pic>
        <p:nvPicPr>
          <p:cNvPr id="287" name="" descr=""/>
          <p:cNvPicPr/>
          <p:nvPr/>
        </p:nvPicPr>
        <p:blipFill>
          <a:blip r:embed="rId3"/>
          <a:stretch/>
        </p:blipFill>
        <p:spPr>
          <a:xfrm>
            <a:off x="5011560" y="952560"/>
            <a:ext cx="3964320" cy="48546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1434960" y="274680"/>
            <a:ext cx="7499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 u="sng">
                <a:solidFill>
                  <a:srgbClr val="572314"/>
                </a:solidFill>
                <a:uFillTx/>
                <a:latin typeface="Corbel"/>
                <a:ea typeface="Microsoft YaHei"/>
              </a:rPr>
              <a:t>ИКОНА И МОЛИ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434960" y="1447920"/>
            <a:ext cx="367344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5261040" y="1447920"/>
            <a:ext cx="367344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6360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  <a:ea typeface="Microsoft YaHei"/>
              </a:rPr>
              <a:t>об утешении младенцев (при нарушении сна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  <a:ea typeface="Microsoft YaHei"/>
              </a:rPr>
              <a:t>молитва о возвращении потерянных дет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  <a:ea typeface="Microsoft YaHei"/>
              </a:rPr>
              <a:t>ежедневная молитва о счастье и благополучии дет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  <a:ea typeface="Microsoft YaHei"/>
              </a:rPr>
              <a:t>молитва родителей о детях, которым трудно дается учеб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  <a:ea typeface="Microsoft YaHei"/>
              </a:rPr>
              <a:t>молитва от детских болезн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  <a:ea typeface="Microsoft YaHei"/>
              </a:rPr>
              <a:t>молитва от зла и враг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  <a:ea typeface="Microsoft YaHei"/>
              </a:rPr>
              <a:t>молитва о мире в семь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  <a:ea typeface="Microsoft YaHei"/>
              </a:rPr>
              <a:t>Молитва о путешествующи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2"/>
          <a:stretch/>
        </p:blipFill>
        <p:spPr>
          <a:xfrm>
            <a:off x="1403280" y="1557360"/>
            <a:ext cx="3240000" cy="40323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dur="indefinite" fill="hold">
                      <p:stCondLst>
                        <p:cond delay="0"/>
                      </p:stCondLst>
                      <p:childTnLst>
                        <p:par>
                          <p:cTn id="3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dur="indefinite" fill="hold">
                      <p:stCondLst>
                        <p:cond delay="indefinite"/>
                      </p:stCondLst>
                      <p:childTnLst>
                        <p:par>
                          <p:cTn id="3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dur="indefinite" fill="hold">
                      <p:stCondLst>
                        <p:cond delay="indefinite"/>
                      </p:stCondLst>
                      <p:childTnLst>
                        <p:par>
                          <p:cTn id="4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dur="indefinite" fill="hold">
                      <p:stCondLst>
                        <p:cond delay="indefinite"/>
                      </p:stCondLst>
                      <p:childTnLst>
                        <p:par>
                          <p:cTn id="4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dur="indefinite" fill="hold">
                      <p:stCondLst>
                        <p:cond delay="indefinite"/>
                      </p:stCondLst>
                      <p:childTnLst>
                        <p:par>
                          <p:cTn id="5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dur="indefinite" fill="hold">
                      <p:stCondLst>
                        <p:cond delay="indefinite"/>
                      </p:stCondLst>
                      <p:childTnLst>
                        <p:par>
                          <p:cTn id="5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dur="indefinite" fill="hold">
                      <p:stCondLst>
                        <p:cond delay="indefinite"/>
                      </p:stCondLst>
                      <p:childTnLst>
                        <p:par>
                          <p:cTn id="5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dur="indefinite" fill="hold">
                      <p:stCondLst>
                        <p:cond delay="indefinite"/>
                      </p:stCondLst>
                      <p:childTnLst>
                        <p:par>
                          <p:cTn id="6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dur="indefinite" fill="hold">
                      <p:stCondLst>
                        <p:cond delay="indefinite"/>
                      </p:stCondLst>
                      <p:childTnLst>
                        <p:par>
                          <p:cTn id="6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dur="indefinite" fill="hold">
                      <p:stCondLst>
                        <p:cond delay="indefinite"/>
                      </p:stCondLst>
                      <p:childTnLst>
                        <p:par>
                          <p:cTn id="7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1434960" y="274680"/>
            <a:ext cx="7499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Corbel"/>
                <a:ea typeface="Microsoft YaHei"/>
              </a:rPr>
              <a:t>БЛАГОДАТНОЕ НЕБ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434960" y="1447920"/>
            <a:ext cx="3673440" cy="48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261040" y="1447920"/>
            <a:ext cx="367344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6360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  <a:ea typeface="Microsoft YaHei"/>
              </a:rPr>
              <a:t>Иконе «Благодатное небо» молятся о тех, кто ведет неправедный образ жизни, о наставлении на путь истинный а так же о сохранении при путешествии на воздушном транспорт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2"/>
          <a:stretch/>
        </p:blipFill>
        <p:spPr>
          <a:xfrm>
            <a:off x="1476360" y="1700280"/>
            <a:ext cx="3708360" cy="453708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dur="indefinite" fill="hold">
                      <p:stCondLst>
                        <p:cond delay="0"/>
                      </p:stCondLst>
                      <p:childTnLst>
                        <p:par>
                          <p:cTn id="7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dur="indefinite" fill="hold">
                      <p:stCondLst>
                        <p:cond delay="indefinite"/>
                      </p:stCondLst>
                      <p:childTnLst>
                        <p:par>
                          <p:cTn id="8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1434960" y="274680"/>
            <a:ext cx="7499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Corbel"/>
                <a:ea typeface="Microsoft YaHei"/>
              </a:rPr>
              <a:t>ЖИВОНОСНЫЙ ИСТОЧНИ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2"/>
          <a:stretch/>
        </p:blipFill>
        <p:spPr>
          <a:xfrm>
            <a:off x="1434960" y="1749600"/>
            <a:ext cx="3673440" cy="419544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5261040" y="1447920"/>
            <a:ext cx="367344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6360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rbel"/>
                <a:ea typeface="Microsoft YaHei"/>
              </a:rPr>
              <a:t> </a:t>
            </a:r>
            <a:r>
              <a:rPr b="1" lang="ru-RU" sz="2400" spc="-1" strike="noStrike">
                <a:solidFill>
                  <a:srgbClr val="000000"/>
                </a:solidFill>
                <a:latin typeface="Corbel"/>
                <a:ea typeface="Microsoft YaHei"/>
              </a:rPr>
              <a:t>Иконе Божией Матери «ЖИВОНОСНЫЙ ИСТОЧНИК» – молятся страждущие телесными недугами, страстями и душевными немощами, обращающиеся к Ней с верою получают исцел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dur="indefinite" fill="hold">
                      <p:stCondLst>
                        <p:cond delay="0"/>
                      </p:stCondLst>
                      <p:childTnLst>
                        <p:par>
                          <p:cTn id="8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dur="indefinite" fill="hold">
                      <p:stCondLst>
                        <p:cond delay="indefinite"/>
                      </p:stCondLst>
                      <p:childTnLst>
                        <p:par>
                          <p:cTn id="9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dur="indefinite" fill="hold">
                      <p:stCondLst>
                        <p:cond delay="indefinite"/>
                      </p:stCondLst>
                      <p:childTnLst>
                        <p:par>
                          <p:cTn id="9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1434960" y="274680"/>
            <a:ext cx="7499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Corbel"/>
                <a:ea typeface="Microsoft YaHei"/>
              </a:rPr>
              <a:t>МЛЕКОПИТАТЕЛЬНИЦ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434960" y="1447920"/>
            <a:ext cx="3673440" cy="48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5261040" y="1447920"/>
            <a:ext cx="367344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6360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  <a:ea typeface="Microsoft YaHei"/>
              </a:rPr>
              <a:t>К иконе Божией Матери «Млекопитательница» обычно обращаются за помощью кормящие матери. Считается, что она имеет особую благодать защищать матерей и дет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1403280" y="1413000"/>
            <a:ext cx="3419640" cy="56610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dur="indefinite" fill="hold">
                      <p:stCondLst>
                        <p:cond delay="0"/>
                      </p:stCondLst>
                      <p:childTnLst>
                        <p:par>
                          <p:cTn id="10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dur="indefinite" fill="hold">
                      <p:stCondLst>
                        <p:cond delay="indefinite"/>
                      </p:stCondLst>
                      <p:childTnLst>
                        <p:par>
                          <p:cTn id="10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1434960" y="274680"/>
            <a:ext cx="7499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6600"/>
                </a:solidFill>
                <a:latin typeface="Corbel"/>
                <a:ea typeface="Microsoft YaHei"/>
              </a:rPr>
              <a:t>УТОЛИ МОИ ПЕЧАЛ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434960" y="1447920"/>
            <a:ext cx="3673440" cy="48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261040" y="1447920"/>
            <a:ext cx="367344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6360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  <a:ea typeface="Microsoft YaHei"/>
              </a:rPr>
              <a:t>Перед ней обращаются с молитвой к Божией Матери об избавлении от многочисленных болезней и скорбей, от греховных помыслов и страстей, обуревающих сердц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  <a:ea typeface="Microsoft YaHei"/>
              </a:rPr>
              <a:t>Левую руку Богоматерь приложила к Своей голове, несколько склоненной набок, будто она прислушивается к молитвам всех обращающихся к Ней в печалях и скорбях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2"/>
          <a:stretch/>
        </p:blipFill>
        <p:spPr>
          <a:xfrm>
            <a:off x="1403280" y="1628640"/>
            <a:ext cx="3313080" cy="453708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dur="indefinite" fill="hold">
                      <p:stCondLst>
                        <p:cond delay="0"/>
                      </p:stCondLst>
                      <p:childTnLst>
                        <p:par>
                          <p:cTn id="11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dur="indefinite" fill="hold">
                      <p:stCondLst>
                        <p:cond delay="indefinite"/>
                      </p:stCondLst>
                      <p:childTnLst>
                        <p:par>
                          <p:cTn id="11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dur="indefinite" fill="hold">
                      <p:stCondLst>
                        <p:cond delay="indefinite"/>
                      </p:stCondLst>
                      <p:childTnLst>
                        <p:par>
                          <p:cTn id="11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4T01:26:08Z</dcterms:created>
  <dc:creator>learn3-21</dc:creator>
  <dc:description/>
  <dc:language>en-US</dc:language>
  <cp:lastModifiedBy>михасиг</cp:lastModifiedBy>
  <dcterms:modified xsi:type="dcterms:W3CDTF">2015-01-27T09:03:41Z</dcterms:modified>
  <cp:revision>39</cp:revision>
  <dc:subject/>
  <dc:title>Ефимова Светлана Константиновна г. Ачинск, МБОУ  «сош №18» Ворс  Ольга Владимировна с.Ирбейское,МОБУ</dc:title>
</cp:coreProperties>
</file>